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6B47-CC6B-4F16-9429-3D26F30F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1ED2-3043-4833-8B4D-9EB42C36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8A5F-183B-49D8-AD46-D6C2307A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5061-D5A1-4406-8A37-737D9054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1663-626D-4B7A-99CA-6F937CD2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4AC5-4AE9-444C-9B0B-69C00C0B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C3E5-1488-4650-B441-CE953CB1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6FEC-B580-4A52-A478-03DE6177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D206-947B-4F06-AF1D-2006476B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D7E1-764E-4BCB-ADF7-7CCDD569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F799-F2E9-4B93-A2BB-08117E10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8347-5786-4AD2-8373-21433935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8353-43E0-41E5-9A7F-14225A56B64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0000ff"/>
                </a:solidFill>
                <a:latin typeface="Comic Sans MS"/>
              </a:rPr>
              <a:t>LA MAFIA</a:t>
            </a:r>
            <a:br>
              <a:rPr sz="1200"/>
            </a:b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zione della mafia</a:t>
            </a:r>
            <a:br>
              <a:rPr sz="36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FID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olenta offensiva mafiosa contro rappresentanti del governo statale e locale, investigatori e agenti delle forze dell'ordine, giudici, comuni cittadini, giornalisti, chiunque ostacolasse o denunciasse le nuove alleanze politiche e mafios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UNI NOMI ILLUST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ersanti Mattarella, Pio La Torre, Carlo Alberto Dalla Chiesa, Rocco Chinnici, Giuseppe Fava, Rosario Liva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ovanni Falcone e Paolo Borsell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064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posta del Paes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e reazione dell'opinione pubblica italiana, soprattutto sicilia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zia la collaborazione a livello internazionale con gli organismi anticrimine degli altri Paes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gono utilizzati i “pentiti” o "collaboratori di giustizi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gono arrestati famosi boss latitan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L’US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usura è un reato che consiste nel prestare soldi ad interessi molto alti, che non sono quelli stabiliti dalla leg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 interessi imposti,  dagli usurai sono talmente alti che restituire il prestito diventa molto difficile o addirittura impossi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 presta soldi a queste condizioni conta di impadronirsi dei beni del debitore e/o delle sue attività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BUSINES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rande traffico di ar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traffico internazionale di drog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estors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LE VARIE FORME DEL REATO DI ESTORSIONE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-Bold"/>
                <a:ea typeface="Times New Roman"/>
              </a:rPr>
              <a:t>intimidazione ambienta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-Bold"/>
                <a:ea typeface="Times New Roman"/>
              </a:rPr>
              <a:t>pagamento spontaneo o concorda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-Bold"/>
                <a:ea typeface="Times New Roman"/>
              </a:rPr>
              <a:t>imposizione di personale da assum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-Bold"/>
                <a:ea typeface="Times New Roman"/>
              </a:rPr>
              <a:t>imposizione di attività da sub-appalt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Times New Roman"/>
              </a:rPr>
              <a:t>I GIOVAN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5690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E ADESSO UCCIDETE NOI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ff"/>
                </a:solidFill>
                <a:latin typeface="Times New Roman"/>
              </a:rPr>
              <a:t>LA MAF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’ un’associazione criminale, sorta in Sicilia nel XIX sec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il passare degli anni si è trasformata in una organizzazione affaristico-criminale di dimensioni internazionali, tuttora oper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m’era</a:t>
            </a:r>
            <a:r>
              <a:rPr b="1" lang="it-IT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it-IT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utturata in ori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ttura gerarch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uramenti di sangue e  patti di segretez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ido codice d'onore fatto di omertà, intimidazioni e privati regolamenti di co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atica dell'omicidio non era ancora una norm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 dell’unità d’Italia (1861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obili e la ricca borghes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rono la m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reprimere le rivol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contadini e dei braccia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FIA</a:t>
            </a:r>
            <a:br>
              <a:rPr sz="4000"/>
            </a:b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ostituì alle Istituzioni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RUTT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difficoltà degli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i sociali più pove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protetti dalle autorità stat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rendo assistenza ai bisogno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vando lavoro ai disoccup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endo nell'amministrazione della giustizi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fia e politica</a:t>
            </a:r>
            <a:br>
              <a:rPr sz="32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l 1943 avevano cominciato a fare rientro in Sicilia i mafiosi italo-americani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fia cominciò a controllare la politica e le attività economich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5690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a Nost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icilia le cosche locali occuparono importanti   posti nelle amministrazioni dei Comuni e delle Reg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ziò la guerra tra le cosche per la supremazia e per il controllo del territo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fia palermitana si organizzò in "cupola“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fia “imprenditrice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occupa della prostituzione, degli appalti, dei sequestri e del commercio della dro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 il suo ingresso nei mercati finanziari e cerca nuovi canali di investimento per il riciclaggio del denaro spor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132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lotta alla maf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 1962 venne istituita la prima Commissione parlamentare antimaf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 1982 venne introdotto il reato di "associazione di stampo mafioso" e “il delitto di mafia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 fu la possibilità di sequestrare i patrimoni dei mafiosi e di sciogliere i consigli comunali e provinciali sospettati di collusio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que l'Alto commissariato per la lotta alla mafia per esercitare un maggiore controllo sul riciclaggio del dena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15:52:46Z</dcterms:created>
  <dc:creator>Piasentier</dc:creator>
  <dc:description/>
  <dc:language>en-US</dc:language>
  <cp:lastModifiedBy>DOCENTE</cp:lastModifiedBy>
  <dcterms:modified xsi:type="dcterms:W3CDTF">2019-11-29T09:11:39Z</dcterms:modified>
  <cp:revision>14</cp:revision>
  <dc:subject/>
  <dc:title>LA MAFIA</dc:title>
</cp:coreProperties>
</file>