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B437-F39D-41BE-A863-DE73122F940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AC3B-9A42-42E4-B226-CE0303351DA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7313-609B-48FB-86E2-A26465C6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02DA-0DB2-4D36-8850-A3CEEDFD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D788-A16A-4074-8F7B-32EE2E02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B4D-6DBD-4260-89DE-CAB5189C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F833-F0ED-49E5-A169-A9ECF005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161B-D659-491C-97E7-8D7E1AA0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DB1D-927B-4A4C-ABA2-3858B6A0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4D79-B8E2-43DD-8844-4135FF3F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DAFF-BEFD-4973-B0C8-D15F62F8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5178-37BC-4050-AAA9-B1882832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0071-EDB1-49D3-9488-1B092F54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50C-11A9-483F-B3CE-C882B278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6C94-6BD0-415B-BD4B-432E588C94F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USURA : cos’è e da dove nas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siste nello sfruttare il bisogno di denaro di un’altra persona per procurarsi un forte guadagno con l’imposizione di interessi elev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76200" y="4600440"/>
            <a:ext cx="801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rot="330600">
            <a:off x="627120" y="4890240"/>
            <a:ext cx="74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’usura nasce dall’indebitament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Arial"/>
              </a:rPr>
              <a:t>IL RUOLO DELLE ASSOCIAZIONI ANTIUS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Associazioni rappresentano una fitta r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 solidarietà e di aiuto per non finire nelle ma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gli usurai o per uscir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sse sono  il presidio territoriale della società civ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he monitorizza, registra e collabo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l contrasto del fenome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Associazioni antiusura svolgo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i confronti dei soggetti in difficoltà un’opera d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50920" y="494172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 Assist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500720" y="494172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 Solidarie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50920" y="5589720"/>
            <a:ext cx="777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 Prestazione di Garanz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i confronti delle banch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ver dir="d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8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8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8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8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8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8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8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50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50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5" dur="50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SSIST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9280" y="765000"/>
            <a:ext cx="8785440" cy="6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UOLO DEGLI SPORTELLI DI ASCO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79280" y="1413000"/>
            <a:ext cx="878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strumenti delle Associazioni e delle Fondazio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pito degli Sportelli d’Ascolto non è quello di combattere l’usura o gli usurai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questo compito ci sono già le Forze dell’Ordine e la Magistr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Sportelli hanno il compito di aiutare le persone che si trovano in una condizione di sostanziale e grave indebitamento (patologico/rischio) al fine di prevenire l’usura e quindi di intervenire prima che essa si concretizz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azione principale degli Sportelli è quin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79280" y="5084640"/>
            <a:ext cx="878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200" spc="-1" strike="noStrike">
                <a:solidFill>
                  <a:srgbClr val="000000"/>
                </a:solidFill>
                <a:latin typeface="Arial"/>
              </a:rPr>
              <a:t>LA PREVENZIONE</a:t>
            </a:r>
            <a:r>
              <a:rPr b="0" lang="it-IT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1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USURA/PIZZ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no due fenomeni criminali totalmente diversi anche se talvolta associ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PRESENZA DI QUESTI D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ENOMENI E’ SPESSO ASSOCI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LLA PRESENZA DEL COSIDDETT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it-IT" sz="4400" spc="-1" strike="noStrike">
                <a:solidFill>
                  <a:srgbClr val="ff0000"/>
                </a:solidFill>
                <a:latin typeface="Arial"/>
              </a:rPr>
              <a:t>RICICLAGGI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ICICLAGG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empre più presente nei casi di usura e racket per </a:t>
            </a:r>
            <a:r>
              <a:rPr b="0" lang="it-IT" sz="4400" spc="-1" strike="noStrike">
                <a:solidFill>
                  <a:srgbClr val="ff0000"/>
                </a:solidFill>
                <a:latin typeface="Arial"/>
              </a:rPr>
              <a:t>“ripulir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il denaro sporco e per impadronirsi di imprese artigiane, commerciali ed industria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negli ultimi tempi anche imprese finanziarie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Arial"/>
              </a:rPr>
              <a:t>DIFFERENZA TRA RACKET E US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Racket (Pizz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il racket è attività tipicamente mafios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implica il controllo del territor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ruolo “passivo” della vittim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non è vincolante il parere del P.M. per accedere ai fondi antirack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strumento: contributo a fondo perdu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724280" y="1219320"/>
            <a:ext cx="35816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imes New Roman"/>
              </a:rPr>
              <a:t>Us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imes New Roman"/>
              </a:rPr>
              <a:t>l’usura non è necessariamente attività mafios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imes New Roman"/>
              </a:rPr>
              <a:t>non  implica necessariamente il controllo del territor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imes New Roman"/>
              </a:rPr>
              <a:t>ruolo “attivo” della vittim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imes New Roman"/>
              </a:rPr>
              <a:t>è vincolante il parere del P.M. per accedere ai fondi di solidarietà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imes New Roman"/>
              </a:rPr>
              <a:t>strumento: finanziamento a tasso z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66"/>
                </a:solidFill>
                <a:latin typeface="Arial"/>
              </a:rPr>
              <a:t>EVOLUZIONE DEL FENOMENO US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Il “</a:t>
            </a:r>
            <a:r>
              <a:rPr b="0" lang="it-IT" sz="2000" spc="-1" strike="noStrike" u="sng">
                <a:solidFill>
                  <a:srgbClr val="000066"/>
                </a:solidFill>
                <a:uFillTx/>
                <a:latin typeface="Arial"/>
              </a:rPr>
              <a:t>cravattaro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”: termine tipicamente romanesco, individua l’usuraio che svolge la sua “attività” in ambito locale (spesso il quartier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66"/>
                </a:solidFill>
                <a:uFillTx/>
                <a:latin typeface="Arial"/>
              </a:rPr>
              <a:t>Organizzazioni usurarie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: vere e proprie organizzazioni a delinquere, che spesso agiscono attraverso individui “insospettabili” (commercianti, liberi professionisti, società finanziarie, ecc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66"/>
                </a:solidFill>
                <a:uFillTx/>
                <a:latin typeface="Arial"/>
              </a:rPr>
              <a:t>Usura mafiosa: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 la riscossione dell’interesse usurario può portare la mafia a detenere il controllo dell’impresa, favorisce il riciclaggio di denaro sporco e consente alla mafia di estendere il proprio raggio d’azione sul mondo economico. Conseguenze: limitazione delle libertà d’impresa, limitazione delle relazioni di concorrenza, distorsione del merc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430b"/>
            </a:gs>
            <a:gs pos="100000">
              <a:srgbClr val="711f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L’usura affonda le sue radici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nel sovra-indebitamen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73200" y="407664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600" spc="-1" strike="noStrike">
                <a:solidFill>
                  <a:srgbClr val="000000"/>
                </a:solidFill>
                <a:latin typeface="Arial"/>
              </a:rPr>
              <a:t>NON  BASTA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ima di arrivare all’usura, però, occorre  passare per i tre stadi precedenti dell’indebitame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673200" y="3141720"/>
            <a:ext cx="82296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03d9"/>
            </a:gs>
            <a:gs pos="100000">
              <a:srgbClr val="75016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sfociare nell’usura occorre un elemento aggiuntivo e cioè l’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RRO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o 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CORCIATOI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cui il soggetto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72723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gravemente indebi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115640" y="2276280"/>
            <a:ext cx="6923160" cy="12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incapace di gestire la sua cr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812000" y="549360"/>
            <a:ext cx="79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258920" y="306864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dividua   la soluzione  ai suoi  problemi e quindi la sua salvezza nell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971640" y="4292640"/>
            <a:ext cx="727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…“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ORCIATOIA”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1116000" y="4797360"/>
            <a:ext cx="7272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ll’usuraio che offre una soluzione immediata, salvo rendersi conto, il giorno dopo, di aver aggravato la sua situazi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blinds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6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 repeatCount="5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e12"/>
            </a:gs>
            <a:gs pos="100000">
              <a:srgbClr val="f5430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932360" y="378936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755640" y="33336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erlin Sans FB"/>
              </a:rPr>
              <a:t>L’usuraio, in pratica, ha fornito al suo ingenuo e malaccorto interlocutore 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aracadu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395280" y="32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OVVER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611280" y="220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BUCATO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!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395280" y="4869000"/>
            <a:ext cx="410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UN PARACADUTE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4572000" y="5300640"/>
            <a:ext cx="410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CHE NON SALVA!!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SOVRA-INDEBIT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SITUAZIONE DI PERDURANTE SQUILIBRIO ECONOMICO FRA LE OBBLIGAZIONI ASSUNTE ED I MEZZI DISPONIBILI PER FARVI FRO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PRATICA LA DEFINI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NCAPACITA’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DEBITORE DI ADEMPIERE LE PROPRIE   OBBLIGAZIONI CON REGOLARITA’.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000000"/>
                </a:solidFill>
                <a:uFillTx/>
                <a:latin typeface="Arial"/>
              </a:rPr>
              <a:t>CAUSE  DI  INDEBITAMENTO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VESTIMENTO   PER   AVVIO   ATTIVITA’   ECONOMICA (COMMERCIO,  INDUSTRIA,  ARTIGIANA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PESE   MED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PESE  FAMILIARI  NON  STRETTAMENTE  NECESSA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EBITI   DI   GIO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DUZIONE  DI  REDDITO  PER  CESSAZIONE  ATTIV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PARAZIONE   TRA   I   CONIU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DUZIONE   DEL  REDDITO  PER CASSA  INTEGRAZIONE  O MOBILITA’   DEL   CAPOFAMIG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UMENTO  DEL  COSTO  DELLA  VITA  CON  RIDUZIONE  O ANNULLAMENTO  DEL  RISPARM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CORSO ALLA DR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CHIESTE   DI  RIENTRO   IMMEDIATO  DI  PRESTITI   E   FIDI  DA   PARTE   DI   BANCHE   E   FINANZIARI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6300720" y="25653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ipe dir="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50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1,67,-11)"/>
                                      </p:to>
                                    </p:set>
                                    <p:set>
                                      <p:cBhvr>
                                        <p:cTn id="175" dur="50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1,67,-11)"/>
                                      </p:to>
                                    </p:set>
                                    <p:set>
                                      <p:cBhvr>
                                        <p:cTn id="176" dur="50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7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DAL 7 MARZO 1996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95280" y="836640"/>
            <a:ext cx="8229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Legge 108:  </a:t>
            </a:r>
            <a:br>
              <a:rPr sz="4400"/>
            </a:b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Disposizioni in materia d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611280" y="2133720"/>
            <a:ext cx="82296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usura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79280" y="2781360"/>
            <a:ext cx="87346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Chiunque si fa dare o promettere, sotto qualsiasi forma, per se o  per altri, in corrispettivo di una prestazione di danaro o di altra utilità, interessi o altri vantaggi usurari, è punito con la reclusione da uno a sei anni e con la multa da sei a trenta milioni di lire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79280" y="5300640"/>
            <a:ext cx="8785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Questa legge sostituisce e costituisce integralmente l’art. 644 del codice penale </a:t>
            </a:r>
            <a:br>
              <a:rPr sz="2800"/>
            </a:b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che disciplina appunto il reato di us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strips dir="r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PUNTI SALIENTI DELLA NUOVA DISCIPLINA LEGISLATIVA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legge stabilisce il limite oltre il quale gli interessi son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mp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usurari a prescindere dallo stato di bisogno di chi la subis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79280" y="3068640"/>
            <a:ext cx="8661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a unicamente il tasso d’interesse applica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24000" y="4149720"/>
            <a:ext cx="82296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se supera il tasso soglia si concretizza il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539640" y="515772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000000"/>
                </a:solidFill>
                <a:latin typeface="Arial"/>
              </a:rPr>
              <a:t>r e a t o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edg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500" autoRev="1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81" dur="500" autoRev="1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82" dur="500" autoRev="1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4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10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36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ONDI DI PREVENZIONE E DI SOLIDARIET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vittime del reato di usura, possono accedere ai benefici previsti dalla stessa leg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legge, però, limita l’accesso a tali fondi solo alle vittime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sura che riguardi l’attività econom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 professionale del soggetto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pratica un soggetto sotto usura a causa del gioco d’azzardo può richiedere sì la condanna dell’usuraio ma non può accedere ai benefici previsti dalla leg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79280" y="4581360"/>
            <a:ext cx="8785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Arial"/>
              </a:rPr>
              <a:t>In ogni caso è obbligatoria la denuncia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randomBar dir="horz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7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925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192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192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192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5" dur="indefinite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1:33:00Z</dcterms:created>
  <dc:creator>sasa</dc:creator>
  <dc:description/>
  <dc:language>en-US</dc:language>
  <cp:lastModifiedBy> </cp:lastModifiedBy>
  <dcterms:modified xsi:type="dcterms:W3CDTF">2011-11-08T16:59:23Z</dcterms:modified>
  <cp:revision>242</cp:revision>
  <dc:subject/>
  <dc:title>PER UN USO RESPONSABILE  DEL DENARO</dc:title>
</cp:coreProperties>
</file>