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TTADINANZA EUROPEA                             I DIRITTI UMANI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.T.C.G. "G. BARUFFI" MONDOVI' -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815-9BA0-4EF9-B8E2-16DD52C3CE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TTADINANZA EUROPEA                             I DIRITTI UMANI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.T.C.G. "G. BARUFFI" MONDOVI' -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339-91B4-4B9E-B094-09D725A964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436-CCC7-4A0D-9924-960BEA4E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A6E-CF67-4C86-9BDC-CAD1CD8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E40-5707-4AD2-B595-5D83F312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F4C-8797-4900-BE2C-FA914B2E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8C8-E2B0-4C2A-B5A5-25416F8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ADF-5D0C-4441-BEF5-C2B41A8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BBC-A15B-45FC-A042-54740DB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3CB-33F0-4A2F-BFD4-E96C9698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EB0-0582-4767-BA5E-AAC2DB78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6C0-0742-43EB-B897-9A18CE4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7A3-7B65-4192-BE97-233245C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A2C-58CB-415E-A5BE-1DD3CE8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282-A7FB-4809-9A42-A62D6EDE15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slide" Target="slide7.xml"/><Relationship Id="rId10" Type="http://schemas.openxmlformats.org/officeDocument/2006/relationships/image" Target="../media/image2.png"/><Relationship Id="rId11" Type="http://schemas.openxmlformats.org/officeDocument/2006/relationships/slide" Target="slide8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BankGothic Lt BT"/>
              </a:rPr>
              <a:t>I Diritti dell’Uom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ankGothic Lt BT"/>
              </a:rPr>
              <a:t>I Padri Fonda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padri_fondatori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8b12c3b48a7a4e9e6728bd2a3ab3fffd"/>
          <p:cNvPicPr/>
          <p:nvPr/>
        </p:nvPicPr>
        <p:blipFill>
          <a:blip r:embed="rId2"/>
          <a:stretch/>
        </p:blipFill>
        <p:spPr>
          <a:xfrm>
            <a:off x="5651640" y="4292640"/>
            <a:ext cx="2624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ankGothic Lt BT"/>
              </a:rPr>
              <a:t>I PRINCIPI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192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Dig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Liber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Uguagl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Solida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Cittadin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Giustiz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1600200" y="21337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3" action="ppaction://hlinksldjump"/>
          </p:cNvPr>
          <p:cNvSpPr/>
          <p:nvPr/>
        </p:nvSpPr>
        <p:spPr>
          <a:xfrm>
            <a:off x="1600200" y="312408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5" action="ppaction://hlinksldjump"/>
          </p:cNvPr>
          <p:cNvSpPr/>
          <p:nvPr/>
        </p:nvSpPr>
        <p:spPr>
          <a:xfrm>
            <a:off x="1600200" y="41911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7" action="ppaction://hlinksldjump"/>
          </p:cNvPr>
          <p:cNvSpPr/>
          <p:nvPr/>
        </p:nvSpPr>
        <p:spPr>
          <a:xfrm>
            <a:off x="4724280" y="376884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9" action="ppaction://hlinksldjump"/>
          </p:cNvPr>
          <p:cNvSpPr/>
          <p:nvPr/>
        </p:nvSpPr>
        <p:spPr>
          <a:xfrm>
            <a:off x="4724280" y="480060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>
            <a:hlinkClick r:id="rId11" action="ppaction://hlinksldjump"/>
          </p:cNvPr>
          <p:cNvSpPr/>
          <p:nvPr/>
        </p:nvSpPr>
        <p:spPr>
          <a:xfrm>
            <a:off x="4724280" y="582624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DIGNI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446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dignità è umana per natura in quanto l’uomo, superiore agli altri esseri, ha il dono della ragione. Egli ha un valore incommensurabile perché è un soggetto infinitamente amato e capace di am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256_dignita_e_speranza"/>
          <p:cNvPicPr/>
          <p:nvPr/>
        </p:nvPicPr>
        <p:blipFill>
          <a:blip r:embed="rId3"/>
          <a:stretch/>
        </p:blipFill>
        <p:spPr>
          <a:xfrm>
            <a:off x="6516720" y="1557360"/>
            <a:ext cx="1797120" cy="245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A09UZCH"/>
          <p:cNvPicPr/>
          <p:nvPr/>
        </p:nvPicPr>
        <p:blipFill>
          <a:blip r:embed="rId4"/>
          <a:stretch/>
        </p:blipFill>
        <p:spPr>
          <a:xfrm>
            <a:off x="1187280" y="4076640"/>
            <a:ext cx="161928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4572000" y="450864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gni individuo ha diritto alla v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essuno può essere condannato alla pena di  morte, né giustiziato. (art.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LIBER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482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libertà non è il potere di fare cioè che si vuole anche a costo di calpestare l’altro, ma, al contrario è la facoltà che ci consente di riconoscere e rispettare l’altro fino al punto di amarlo. Uccidere o cancellare l’altro non è libertà, ma il suo esatto contr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liberta"/>
          <p:cNvPicPr/>
          <p:nvPr/>
        </p:nvPicPr>
        <p:blipFill>
          <a:blip r:embed="rId3"/>
          <a:stretch/>
        </p:blipFill>
        <p:spPr>
          <a:xfrm>
            <a:off x="1042920" y="4221000"/>
            <a:ext cx="2809800" cy="19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ittadinanza3"/>
          <p:cNvPicPr/>
          <p:nvPr/>
        </p:nvPicPr>
        <p:blipFill>
          <a:blip r:embed="rId4"/>
          <a:stretch/>
        </p:blipFill>
        <p:spPr>
          <a:xfrm>
            <a:off x="5940360" y="1844640"/>
            <a:ext cx="169092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5003640" y="4797360"/>
            <a:ext cx="3456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libertà è il diritto dell’anima di respira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dal film “Will Hunting – Genio Ribel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UGUAGLIANZ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1640" y="1916280"/>
            <a:ext cx="3809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n importa quale sia il colore della tua pelle, la tua religione, la tua origine sociale, la tua lingua, la tua età, le tue caratteristiche fisiche o la tua razza. Sei in Europa! (art. 20-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aguaglianza"/>
          <p:cNvPicPr/>
          <p:nvPr/>
        </p:nvPicPr>
        <p:blipFill>
          <a:blip r:embed="rId1"/>
          <a:stretch/>
        </p:blipFill>
        <p:spPr>
          <a:xfrm>
            <a:off x="990720" y="1600200"/>
            <a:ext cx="2990880" cy="23922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rId2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uguaglianza"/>
          <p:cNvPicPr/>
          <p:nvPr/>
        </p:nvPicPr>
        <p:blipFill>
          <a:blip r:embed="rId4"/>
          <a:stretch/>
        </p:blipFill>
        <p:spPr>
          <a:xfrm>
            <a:off x="5364000" y="4508640"/>
            <a:ext cx="2160720" cy="165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1042920" y="458136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Unione rispetta la diversità culturale, religiosa e linguistica e promuove la parità tra uomini e donne e la protezione per il benessere dei bambini, anziani e disabili. (art. 22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SOLIDARIE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46814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cultura della vita esige solidarietà verso i più piccoli e verso i più deboli. In particolare quando le leggi e gli stati, le maggioranze e i mezzi di comunicazione sociale negano il diritto di vivere a essi, essa ha il coraggio di ergersi a difesa dei piccoli e dei deboli anche di fronte ai poten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solidarieta"/>
          <p:cNvPicPr/>
          <p:nvPr/>
        </p:nvPicPr>
        <p:blipFill>
          <a:blip r:embed="rId3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uguaglia"/>
          <p:cNvPicPr/>
          <p:nvPr/>
        </p:nvPicPr>
        <p:blipFill>
          <a:blip r:embed="rId4"/>
          <a:stretch/>
        </p:blipFill>
        <p:spPr>
          <a:xfrm>
            <a:off x="1619280" y="4508640"/>
            <a:ext cx="2387520" cy="191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219640" y="458136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unione e la solidarietà degli uomini possono prosciugare i mari e abbattere le montagne. (proverbio cin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CITTADINANZ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55640" y="2205000"/>
            <a:ext cx="395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ver la cittadinanza europea significa anche partecipare alla vita politica dell’Unione: ogni cittadino che abbia raggiunto l’età stabilita per farlo può, infatti, votare per eleggere i membri del Parlamento, addirittura, candidarsi per essere eletto. (art.3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 quanto riguarda la geografia, all’interno del territorio europeo si può circolare liberamente attraversando le frontiere senza bisogno di pagamenti o passapor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cittadinanza2"/>
          <p:cNvPicPr/>
          <p:nvPr/>
        </p:nvPicPr>
        <p:blipFill>
          <a:blip r:embed="rId3"/>
          <a:stretch/>
        </p:blipFill>
        <p:spPr>
          <a:xfrm>
            <a:off x="6877080" y="184464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ittadinanza"/>
          <p:cNvPicPr/>
          <p:nvPr/>
        </p:nvPicPr>
        <p:blipFill>
          <a:blip r:embed="rId4"/>
          <a:stretch/>
        </p:blipFill>
        <p:spPr>
          <a:xfrm>
            <a:off x="179280" y="4292640"/>
            <a:ext cx="2052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GIUSTIZ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625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</a:rPr>
              <a:t>La giustizia è ordine dei rapporti umani e la virtù morale per la quale si osserva il dovere e il diritto. È la costante volontà di riconoscere a ciascuno ciò che gli è dovuto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381480" cy="3103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rId2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8277120" y="64771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7316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  <a:path fill="darken" w="21629" h="21600">
                <a:moveTo>
                  <a:pt x="3808" y="3794"/>
                </a:moveTo>
                <a:lnTo>
                  <a:pt x="5470" y="3794"/>
                </a:lnTo>
                <a:lnTo>
                  <a:pt x="5470" y="17806"/>
                </a:lnTo>
                <a:lnTo>
                  <a:pt x="3808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0920" y="39337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utte le leggi e tutte le strutture sociali devono essere a servizio dell’uomo e di ogni uomo: a nessuno deve mancare la possibilità di difendersi (art.47-4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nkGothic Lt BT"/>
              </a:rPr>
              <a:t>Discorso di Benedetto XVI all’assemblea generale dell’O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 principi fondativi dell’Organizzazione - il desiderio della pace, la ricerca della giustizia, il rispetto della dignità della persona, la cooperazione umanitaria e l’assistenza - esprimono le giuste aspirazioni dello spirito umano e costituiscono gli ideali che dovrebbero sottostare alle relazioni internaziona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gni Stato ha il dovere primario di proteggere la propria popolazione da violazioni gravi e continue dei diritti umani, come pure dalle conseguenze delle crisi umanitarie, provocate sia dalla natura che dall’uo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mpre più presentati come linguaggio comune e sostrato etico delle relazioni internazionali. Allo stesso tempo, l’universalità, l’indivisibilità e l’interdipendenza dei diritti umani servono tutte quali garanzie per la salvaguardia della dignità um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8:27:24Z</dcterms:created>
  <dc:creator>utente</dc:creator>
  <dc:description/>
  <dc:language>en-US</dc:language>
  <cp:lastModifiedBy> </cp:lastModifiedBy>
  <dcterms:modified xsi:type="dcterms:W3CDTF">2011-11-08T16:15:20Z</dcterms:modified>
  <cp:revision>26</cp:revision>
  <dc:subject/>
  <dc:title>I diritti dell’uomo</dc:title>
</cp:coreProperties>
</file>