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gif" ContentType="image/gi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F472-4604-412A-9690-EA32943D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E6B-8BC5-4A09-A6EE-26B1631C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5802-A01C-4FE0-B050-F51A3611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8A2-70C2-40BF-BD31-58BD76E2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E424-307C-4E2E-A38A-FAF0D11A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72A-9D56-480B-8646-8968AE03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1C2A-DB9A-4F9E-BF4D-9A302074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3159-DDA9-49EE-93D6-444D7125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182-3540-4BF7-AE9A-682F5A18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D4FB-1F6C-4F15-A265-C63E1ECF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BEFB-6137-403F-A2A0-7815B69A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3F8-297F-44AC-8638-B467E97F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B2CC-3E77-4578-8409-5E3FE39403F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te...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f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66ff"/>
                </a:solidFill>
                <a:latin typeface="Arial"/>
              </a:rPr>
              <a:t>LE REGOLE DEL BUON CITTAD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integrazione"/>
          <p:cNvPicPr/>
          <p:nvPr/>
        </p:nvPicPr>
        <p:blipFill>
          <a:blip r:embed="rId1"/>
          <a:stretch/>
        </p:blipFill>
        <p:spPr>
          <a:xfrm>
            <a:off x="1042920" y="1916280"/>
            <a:ext cx="7058160" cy="4249440"/>
          </a:xfrm>
          <a:prstGeom prst="rect">
            <a:avLst/>
          </a:prstGeom>
          <a:ln w="0">
            <a:noFill/>
          </a:ln>
        </p:spPr>
      </p:pic>
      <p:pic>
        <p:nvPicPr>
          <p:cNvPr id="43" name="Aerosmith - Armagedon - I Don't Wanna miss a thing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bbe0e3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9.Favorire l’integrazione nella società delle persone diverse da n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rescere%20nella%20scuola%20di%20tutti"/>
          <p:cNvPicPr/>
          <p:nvPr/>
        </p:nvPicPr>
        <p:blipFill>
          <a:blip r:embed="rId1"/>
          <a:stretch/>
        </p:blipFill>
        <p:spPr>
          <a:xfrm rot="21097200">
            <a:off x="1835280" y="1483920"/>
            <a:ext cx="6265800" cy="470844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45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10.Aiutare generosamente le persone che sono in difficolt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adozione a distanza è un modo per aiutare il prossimo. La nostra classe insieme alla classe 2E ha adottato una bambina indiana; due volte all’anno le mandiamo circa 200€ per andare a scuola e pagare i libri e il materiale scolas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adozione_a_distanza_tc_94658945c"/>
          <p:cNvPicPr/>
          <p:nvPr/>
        </p:nvPicPr>
        <p:blipFill>
          <a:blip r:embed="rId1"/>
          <a:stretch/>
        </p:blipFill>
        <p:spPr>
          <a:xfrm>
            <a:off x="4716360" y="1440000"/>
            <a:ext cx="2519640" cy="2519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dozioni"/>
          <p:cNvPicPr/>
          <p:nvPr/>
        </p:nvPicPr>
        <p:blipFill>
          <a:blip r:embed="rId2">
            <a:lum bright="6000"/>
          </a:blip>
          <a:stretch/>
        </p:blipFill>
        <p:spPr>
          <a:xfrm rot="1270200">
            <a:off x="6443280" y="234936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Bimbaguinea"/>
          <p:cNvPicPr/>
          <p:nvPr/>
        </p:nvPicPr>
        <p:blipFill>
          <a:blip r:embed="rId3"/>
          <a:stretch/>
        </p:blipFill>
        <p:spPr>
          <a:xfrm rot="639600">
            <a:off x="4716360" y="3933720"/>
            <a:ext cx="3146400" cy="209232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1.Se i conflitti non si riescono a risolvere, cercare aiuto nella mediazione di alt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mediando_01"/>
          <p:cNvPicPr/>
          <p:nvPr/>
        </p:nvPicPr>
        <p:blipFill>
          <a:blip r:embed="rId1"/>
          <a:stretch/>
        </p:blipFill>
        <p:spPr>
          <a:xfrm rot="1020000">
            <a:off x="6877080" y="2133720"/>
            <a:ext cx="1638360" cy="1562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Casa_dei_conflitti_1"/>
          <p:cNvPicPr/>
          <p:nvPr/>
        </p:nvPicPr>
        <p:blipFill>
          <a:blip r:embed="rId2"/>
          <a:stretch/>
        </p:blipFill>
        <p:spPr>
          <a:xfrm>
            <a:off x="4500720" y="2781360"/>
            <a:ext cx="2016000" cy="1458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conflitto"/>
          <p:cNvPicPr/>
          <p:nvPr/>
        </p:nvPicPr>
        <p:blipFill>
          <a:blip r:embed="rId3"/>
          <a:stretch/>
        </p:blipFill>
        <p:spPr>
          <a:xfrm>
            <a:off x="5148360" y="4581360"/>
            <a:ext cx="3524040" cy="1695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4"/>
          <p:cNvSpPr/>
          <p:nvPr/>
        </p:nvSpPr>
        <p:spPr>
          <a:xfrm>
            <a:off x="324000" y="4724280"/>
            <a:ext cx="410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0000"/>
                </a:solidFill>
                <a:latin typeface="Arial"/>
              </a:rPr>
              <a:t>Ricordiamoci: gli altri ci possono aiut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250920" y="1700280"/>
            <a:ext cx="367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ognuno di noi è capitato di essere in conflitto con qualcuno:un compagno, un parente, un vicino di casa. In questo senso il conflitto è un’esperienza di vita  dolorosa che tutti sperimentiamo, ma che si può affrontare e super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2.Sviluppare un comportamento assertivo: fare qualcosa che sia positivo in ugual misura per sé e per gli al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e si comporta una persona assertiv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attenta a sè ed agli alt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è condizionata dagli alt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tilizza metodi corretti, motivanti e gratificanti, per sé e per gli alt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Che cosa provoca il comportamento assertivo?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enta considerazione degli alt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ducia in sè e negli alt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elte autonome, fuori, dal “bran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spetto della dignità propria e altr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Sociali"/>
          <p:cNvPicPr/>
          <p:nvPr/>
        </p:nvPicPr>
        <p:blipFill>
          <a:blip r:embed="rId1"/>
          <a:stretch/>
        </p:blipFill>
        <p:spPr>
          <a:xfrm rot="982800">
            <a:off x="4643280" y="2492280"/>
            <a:ext cx="4038840" cy="330696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picasso_pa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Le regole princip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ivere ones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are a ciascuno ciò che ha diritto di a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are il bene, semp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noscere i propri doveri e i propri diritti, rispettando le regole della comun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on danneggiare mai consapevolmente niente e nessu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ibellarsi all’indifferenza, all’omertà, al silenzio, per migliorare il luogo in cui si vive e le abitudini sbagliate di molte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are notizia all’autorità giudiziaria di qualsiasi reato si venga a conosc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mmettere,in caso di errori, di aver sbagliato e avere abbastanza autostima da sapere che si può ricominci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avorire l’integrazione nella società delle persone diverse da n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iutare generosamente le persone che sono in difficol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e i conflitti non si riescono a risolvere, cercare forme di medi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viluppare un comportamento assertivo: fare qualcosa che è positivo in ugual misura per sé e per gli alt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1.Vivere onest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560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on la stessa facilità con cui il vento</a:t>
            </a:r>
            <a:br>
              <a:rPr sz="2400"/>
            </a:b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radica un fragile albero</a:t>
            </a:r>
            <a:br>
              <a:rPr sz="2400"/>
            </a:b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Le tentazioni trascinano</a:t>
            </a:r>
            <a:br>
              <a:rPr sz="2400"/>
            </a:b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hi è alla ricerca del piacere,</a:t>
            </a:r>
            <a:br>
              <a:rPr sz="2400"/>
            </a:b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hi è avido, pigro e deb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Ma come il vento</a:t>
            </a:r>
            <a:br>
              <a:rPr sz="2400"/>
            </a:b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on riesce ad abbattere un montagna,</a:t>
            </a:r>
            <a:br>
              <a:rPr sz="2400"/>
            </a:b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essuna tentazione scuote</a:t>
            </a:r>
            <a:br>
              <a:rPr sz="2400"/>
            </a:b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hi è desto, energico,</a:t>
            </a:r>
            <a:br>
              <a:rPr sz="2400"/>
            </a:b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Fiducioso e vive semplice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.Dare a ciascuno quello che ha il diritto di av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6720" y="1557000"/>
            <a:ext cx="4067280" cy="504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Dai il meglio di t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Se fai il bene, ti attribuiranno 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secondi fini egoistici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non importa, fa' il bene.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Se realizzi i tuoi obiettivi,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troverai falsi amici e veri nemici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non importa realizzali.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Il bene che fai verrà domani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dimenticato.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Non importa fa' il bene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L'onestà e la sincerità ti 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rendono vulnerabile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non importa, sii franco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e onesto. 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Dà al mondo il meglio di te, e ti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prenderanno a calci.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Non importa, dà il meglio di te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(Madre Teresa di Calcutta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24000" y="227664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3.Fare il bene,   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  semp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4. Conoscere i propri doveri e i propri   </a:t>
            </a:r>
            <a:br>
              <a:rPr sz="3400"/>
            </a:b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        diritti,rispettando le regole della   </a:t>
            </a:r>
            <a:br>
              <a:rPr sz="3400"/>
            </a:b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        comunità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untitled"/>
          <p:cNvPicPr/>
          <p:nvPr/>
        </p:nvPicPr>
        <p:blipFill>
          <a:blip r:embed="rId1"/>
          <a:stretch/>
        </p:blipFill>
        <p:spPr>
          <a:xfrm>
            <a:off x="925560" y="1600200"/>
            <a:ext cx="310032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bambina_g"/>
          <p:cNvPicPr/>
          <p:nvPr/>
        </p:nvPicPr>
        <p:blipFill>
          <a:blip r:embed="rId2"/>
          <a:stretch/>
        </p:blipFill>
        <p:spPr>
          <a:xfrm>
            <a:off x="5219640" y="1413000"/>
            <a:ext cx="1803600" cy="254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giornali"/>
          <p:cNvPicPr/>
          <p:nvPr/>
        </p:nvPicPr>
        <p:blipFill>
          <a:blip r:embed="rId3"/>
          <a:stretch/>
        </p:blipFill>
        <p:spPr>
          <a:xfrm>
            <a:off x="1332000" y="4149720"/>
            <a:ext cx="2187360" cy="2187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verte-Small-151323_L"/>
          <p:cNvPicPr/>
          <p:nvPr/>
        </p:nvPicPr>
        <p:blipFill>
          <a:blip r:embed="rId4"/>
          <a:stretch/>
        </p:blipFill>
        <p:spPr>
          <a:xfrm>
            <a:off x="5148360" y="4005360"/>
            <a:ext cx="1797120" cy="2692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7"/>
          <p:cNvSpPr/>
          <p:nvPr/>
        </p:nvSpPr>
        <p:spPr>
          <a:xfrm>
            <a:off x="1024920" y="344808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RITTO ALLA LIBER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7308720" y="1484280"/>
            <a:ext cx="183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RITTO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OV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L’ISTRU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1403280" y="6308640"/>
            <a:ext cx="22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RITTO DI PA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7072200" y="4048200"/>
            <a:ext cx="177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SPET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L’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b5ff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5.Non danneggiare mai consapevolmente niente e nessu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rispetto non è ossequio, deferenza, riveren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’ attenzione, considerazione e riguardo per le persone, le istituzioni e le cose. E’ la prima categoria d’ogni forma educativa che non può essere insegnata, ma che si apprende con l’esempio, la prassi, l’imitazione e l’identificazi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aiooo"/>
          <p:cNvPicPr/>
          <p:nvPr/>
        </p:nvPicPr>
        <p:blipFill>
          <a:blip r:embed="rId1"/>
          <a:stretch/>
        </p:blipFill>
        <p:spPr>
          <a:xfrm>
            <a:off x="5219640" y="162864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RISPETTO"/>
          <p:cNvPicPr/>
          <p:nvPr/>
        </p:nvPicPr>
        <p:blipFill>
          <a:blip r:embed="rId2"/>
          <a:stretch/>
        </p:blipFill>
        <p:spPr>
          <a:xfrm>
            <a:off x="5148360" y="4076640"/>
            <a:ext cx="3098880" cy="218772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6.Ribellarsi all’indifferenza, all’omertà, al silenzio, per migliorare il luogo in cui si vive e le abitudini sbagliate di molte pers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slamabad, 18 feb. (Adnkronos) - Ad appena 11 anni Tuba Sahaab ha ingaggiato una personale battaglia a colpi di poesie contro i talebani dalla periferia di Islamabad dove vive. In un Pakistan dove molte bambine non possono frequentare la scuola e i loro libri vengono bruciati, Tuba non e' stata ridotta al silenzio dagli estremisti islamici. Scrive versi che raccontano il dolore e le sofferenze dei piccoli come lei, non temendo di dire a voce alta cio' che pen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7.Dare notizia all’autorità giudiziaria di qualsiasi reato si venga a conosc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OM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- Uno studente di quindici anni di Sannicola (Lecce) affidato ad una comunità di recupero dai carabinieri per essersi reso protagonista di ripetuti atti di bullismo nella sua scuol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È successo in un istituto superiore di Gallipoli. È una brutta storia di estorsioni, di botte, di silenzi e indifferenza consumata in una comunità dove si lavora per educare i giovani. Tutto parte dalla denuncia di una madre. Il figlio tornava a casa con dei lividi. La donna scopre che il ragazzo subiva le angherie di un compagno, il classico bullo, che con minacce gli portava via la paghetta: dieci, venti euro. Altrimenti erano botte. Il ragazzo viene affidato ad una comunità di recupe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6903-tribunale"/>
          <p:cNvPicPr/>
          <p:nvPr/>
        </p:nvPicPr>
        <p:blipFill>
          <a:blip r:embed="rId1"/>
          <a:stretch/>
        </p:blipFill>
        <p:spPr>
          <a:xfrm>
            <a:off x="4716360" y="1914480"/>
            <a:ext cx="4176720" cy="365436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5c00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8.Ammettere,in caso di errori, di aver sbagliato e avere abbastanza autostima da sapere che si può ricominci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1400" spc="-1" strike="noStrike">
                <a:solidFill>
                  <a:srgbClr val="000000"/>
                </a:solidFill>
                <a:latin typeface="Lucida Calligraphy"/>
              </a:rPr>
              <a:t>Ammettere gli errori è una cosa incredibile. Richiede veramente uno sforzo sovrumano per la maggior parte delle persone; perché significa ammettere la nostra fallibilità. Poi ci si rende conto che ammettere apertamente uno sbaglio ci farà stare meglio, perché ammettere gli errori è la prima parte di qualunque rapporto. Quella parte di noi che cade e dice "</a:t>
            </a:r>
            <a:r>
              <a:rPr b="0" i="1" lang="it-IT" sz="1400" spc="-1" strike="noStrike">
                <a:solidFill>
                  <a:srgbClr val="000000"/>
                </a:solidFill>
                <a:latin typeface="Lucida Calligraphy"/>
              </a:rPr>
              <a:t>cavoli, non so ancora camminare</a:t>
            </a:r>
            <a:r>
              <a:rPr b="0" lang="it-IT" sz="1400" spc="-1" strike="noStrike">
                <a:solidFill>
                  <a:srgbClr val="000000"/>
                </a:solidFill>
                <a:latin typeface="Lucida Calligraphy"/>
              </a:rPr>
              <a:t>" e che si rialza di volta in volta. Quella parte che impara e impara e impara. Perchè sa di non essere ancora dove vorrebbe.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Lucida Calligraphy"/>
              </a:rPr>
              <a:t>Ogni nostra crescita parte dai nostri errori, e prima ancora da noi stessi.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Lucida Calligraphy"/>
              </a:rPr>
              <a:t>Ma se non facciamo errori allora non potremmo mai cresc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00px-Errare_humanum_est"/>
          <p:cNvPicPr/>
          <p:nvPr/>
        </p:nvPicPr>
        <p:blipFill>
          <a:blip r:embed="rId1"/>
          <a:stretch/>
        </p:blipFill>
        <p:spPr>
          <a:xfrm rot="1272000">
            <a:off x="5003280" y="2421000"/>
            <a:ext cx="3743640" cy="272088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8:15:51Z</dcterms:created>
  <dc:creator>Alunni</dc:creator>
  <dc:description/>
  <dc:language>en-US</dc:language>
  <cp:lastModifiedBy>DOCENTE</cp:lastModifiedBy>
  <dcterms:modified xsi:type="dcterms:W3CDTF">2019-11-29T09:07:46Z</dcterms:modified>
  <cp:revision>5</cp:revision>
  <dc:subject/>
  <dc:title>LE REGOLE DEL BUON CITTADINO</dc:title>
</cp:coreProperties>
</file>