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6A8-01A7-4E6A-9F46-09C65181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D6D-D137-4D0A-B18B-D68936EC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6F5-FA29-4219-B46A-83B2F793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4BB-C5D0-49BD-A8ED-F56C1C59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F15-989C-4002-A6D3-CA9A9007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F65-30E2-4A5A-9A00-FF95ACF9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87B-DD32-404C-A7F6-7E8A6BE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13D-39D1-4F17-9104-6D5E3E5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FED-6878-432C-A067-8F479EF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287-6C2D-4705-9BB4-2D0E4B3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180-C66C-4FD1-B1CE-04FD92B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0E6-24C0-4F7C-BBF5-EFA946DC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2BE-46AB-4974-AA68-FAEA092F0D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DIRITTI U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La Dichiarazione Universale </a:t>
            </a:r>
            <a:br>
              <a:rPr sz="4000"/>
            </a:b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dei diritti dell’u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va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l’Assemblea generale dell’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10 dicemb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nosce i diritti della 1° e della 2° gen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ichiarazione universale dei diritti dell'uomo non è giuridicamente vincolante per gli Stati membri dell'organizz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 la Dichiarazione dei diritti dell'uomo è un documento di importanza storica fondamentale: è stato infatti il primo documento a sancire universalmente (cioè in ogni epoca storica e in ogni parte del mondo) i diritti che spettano all'essere um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La Convenzione Europea per la salvaguardia dei diritti dell’u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vata da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nsiglio d’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a Convenzione sono indicati i diritti e le libertà fondamentali che ogni Stato che ha aderito al Consiglio d’Europa si impegna a rispet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ittadini in caso di violazione possono rivolgersi al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rte Europe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irit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’uom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Strasbu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La Carta dei diritti fondamentali dell’Unione Europ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va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l'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Unione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7 dicemb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00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Ni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onde alla necessità emersa durante il di definire un gruppo di diritti e di libertà di eccezionale rilevanza che fossero garantiti a tutti i cittadini dell’Un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arta riconosce sia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libertà fondamentali presenti nelle costituzioni di tutti gli stati membri, sia i diritti economici e soci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nosce inoltre i diritti “moderni”, quelli che derivano da alcuni sviluppi della tecnologia, come la tutela dei dati personali o il divieto della clonazione uma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Statuto istitutivo del Tribunale Penale Internaz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 dalla fine della tragedia della Seconda Guerra Mondiale e per circa mezzo secolo le Nazioni Unite hanno riconosciuto la necessità di un Tribunale Internazionale Permanente per giudicare e punire i responsabili dei più gravi crimini di rilevanza inter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Nazioni Un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nno approvato lo Statuto che ha istituito il Tribunale Penale Internazionale Permanente entrato in vigore n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ribunale avrà giudica sui seguenti crim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noci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mini contro l’umani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mini di gu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a Costituzione Ital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a legge fondamentale del nostro S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stata emana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l’Assemblea Costit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entrata in vigore il 1 gennai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rt 2 c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La Repubblica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riconosce e garantisce i diritti inviolabili dell'uomo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, sia come singolo sia nelle formazioni sociali ove si svolge la sua personalità...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iritti inviolabili dell’u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tratta di diritti che lo Stato RICONOSCE e GARANTIS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Riconosc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gnifica considerare questi diritti come pre-esistenti allo Stato, che esistono prima dello Stato e che esistono indipendentemente da ess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aranti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gnifica che lo stato si impegna a proteggerli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i diritti son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VIOLABI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ioè diritti di cui nessuno può essere pri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categoria compr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diritti espressamente elencati nella Costituzione ita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a i nuovi diritti che emergono dal cambiamento della società (ambiente, consumatori, privac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rt 3 c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utti i cittadini hanno pari dignità sociale e sono eguali davanti alla legge, senza distinzione di sesso, di razza, di lingua, di religione, di opinioni politiche, di condizioni personali e sociali.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…”</a:t>
            </a:r>
            <a:br>
              <a:rPr sz="3200"/>
            </a:b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principio di uguagl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ima proposizione (comma) afferma l'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guaglianza form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me uguaglianza di tutti i cittadini di fronte alla leg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vietate discriminazioni che si basi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 ses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a ra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differenze lingu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a relig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opinioni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condizioni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condizioni sociali.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I diritti u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i diritti che spettano ad ogni essere umano in quanto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ARATTERISTI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diritt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ASSOLU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ché si fanno valere nei confronti di tut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NDISPONIBIL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ché non vi si può rinunci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NON PATRIMONIA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ché non hanno un valore econo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generazioni dei diritti um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diritti umani sono il frutto di un lung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percorso stor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he ne ha portato all’afferm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studiosi hanno individuato delle vere e proprie generazioni di diritti, divisi a seconda del momento storico in cui si sono svilup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1°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ima generazione dei diritti uma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ene fatta risalire al 1789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quindi alla fine della Rivoluzione francese con l’approvazione della Dichiarazione dei diritti dell’uomo e del citta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diritti che nascono dalla rivendicazione di una serie di libertà fondament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tratta in particolare d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ritto alla vita e all’integrità fisica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poi di tutti quei diritti legati all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libertà di pensiero, di religione, di espressione, di associazione, il diritto alla partecipazione politica,il diritto di votare e di essere votati.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2° 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a seconda generazione ha origine con la Dichiarazione universale del 1948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rende diritti di natura economica, sociale e culturale (come per esempio i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ritto all’istruzione, al lavoro, alla casa, alla salu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c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sercizio effettivo di questi diritti dovrebbe contribuire al miglioramento delle condizioni di vita del cittadin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3° 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i diritti son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ritti di tipo collet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ignifica che i destinatari non sono i singoli individui, ma i pop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iritto alla pace, allo sviluppo, all’equilibrio ecologico, al controllo delle risorse nazionali, alla difesa ambi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nno parte dei diritti di terza generazione anche quelli che tutelan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ategorie di individu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ritenute particolarment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ebo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d esposte a pericoli di violazioni dei loro diritti: si tratta in particolare dei diritti dell’infanzia e dei diritti della do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4° 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e infine una quarta generazione di diritti, che tuttavia non è ancora stata elaborata con precisione essendo un fenomeno molto recente: i diritti di quarta generazione sono quelli relativi al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ampo delle manipolazioni genetiche, della bioetica e delle nuove tecnologie di comunic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vendicazione di questi nuovi diritti deriva dalla minaccia causata dalle nuove tecnolog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ensi ai danni che possono causare alla salute i cibi geneticamente modificati, oppure ai pericoli in cui possono incorrere specialmente i bambini utilizzando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e violazioni nel mo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na di m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ingi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oc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ecuzioni per motivi politici/religi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riminazioni sulle d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fruttamento dei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minor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olenze sui min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me/povertà/analfabe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Gli atti giuridici a tutela dei diritti u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0:54:06Z</dcterms:created>
  <dc:creator>DONA</dc:creator>
  <dc:description/>
  <dc:language>en-US</dc:language>
  <cp:lastModifiedBy> </cp:lastModifiedBy>
  <dcterms:modified xsi:type="dcterms:W3CDTF">2011-10-02T15:23:10Z</dcterms:modified>
  <cp:revision>4</cp:revision>
  <dc:subject/>
  <dc:title>DIRITTI UMANI</dc:title>
</cp:coreProperties>
</file>